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wmf" ContentType="image/x-wmf"/>
  <Override PartName="/ppt/media/image20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0AF-7017-4FBC-9B13-E36C3AB2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327-C75A-4D5B-9236-1A6D5936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88E-434C-4A2A-8C4C-7A90189B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59D-8D44-48B1-A424-908FABBF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F543-A9BC-49B8-9D48-DE1D5A4A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D824-BD32-47CE-BE2F-9F2AAA05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0B04-645F-4E36-B8E7-B38A2414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DB38-D2B9-4CFB-BBFC-B2ED8911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3FA6-800F-4207-89A6-8C396C33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4953-9D1A-4557-A9E0-4B6C8F8E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EA7E-DE84-4F11-B145-A2A68B15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711-F0DD-4991-B7AC-000160CA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2CF9-3CB4-4241-8AE7-6A84D8D7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39BC-49F2-4003-9046-9CCD5777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1226-CB05-4B02-8599-E2FA456B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46EE-2664-466B-BE15-777822D7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50A8-150E-4F4E-93DD-053C8E30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5C2-2287-4CF3-A996-534FEE5F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C2B-D84F-4868-AE1A-CD0F2AFC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D4D-08F8-4F85-8F77-194054AD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94F-9E71-410D-9F66-6537E940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36F-9DD7-488C-B25D-9FD473DC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CD8-7EDB-47A9-8976-D9A5C764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10E-84FB-408F-8B25-258CED67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CA0D-DD7E-42D7-9BB3-F975C9DDF5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0891-D647-4B83-BE5B-A56870DFB3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moonpans.com/vr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moon-15day-2884-500"/>
          <p:cNvPicPr/>
          <p:nvPr/>
        </p:nvPicPr>
        <p:blipFill>
          <a:blip r:embed="rId1"/>
          <a:stretch/>
        </p:blipFill>
        <p:spPr>
          <a:xfrm>
            <a:off x="3962520" y="1717560"/>
            <a:ext cx="5181480" cy="5140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Mo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Picture 4" descr="moon%20%20crater%20(9)%204-13-01_al_st_pr"/>
          <p:cNvPicPr/>
          <p:nvPr/>
        </p:nvPicPr>
        <p:blipFill>
          <a:blip r:embed="rId1"/>
          <a:stretch/>
        </p:blipFill>
        <p:spPr>
          <a:xfrm>
            <a:off x="1371600" y="1271520"/>
            <a:ext cx="6858000" cy="5586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Moon2Large"/>
          <p:cNvPicPr/>
          <p:nvPr/>
        </p:nvPicPr>
        <p:blipFill>
          <a:blip r:embed="rId1"/>
          <a:stretch/>
        </p:blipFill>
        <p:spPr>
          <a:xfrm>
            <a:off x="1828800" y="0"/>
            <a:ext cx="554364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562720" cy="101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5562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moon-crater_lg.jp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56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5562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4058_direct-from-moon-8_04700300.jpg"/>
          <p:cNvPicPr/>
          <p:nvPr/>
        </p:nvPicPr>
        <p:blipFill>
          <a:blip r:embed="rId1"/>
          <a:stretch/>
        </p:blipFill>
        <p:spPr>
          <a:xfrm>
            <a:off x="533520" y="685800"/>
            <a:ext cx="8118360" cy="5181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nasa_moon_crater_302.jpg"/>
          <p:cNvPicPr/>
          <p:nvPr/>
        </p:nvPicPr>
        <p:blipFill>
          <a:blip r:embed="rId1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0" y="0"/>
            <a:ext cx="5562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20070328_Copernicus_B_RF_21G700_f1112Locon256map7_40_wvD2_mirror_1011x756.jpg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8687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0" y="0"/>
            <a:ext cx="5562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Tycho_crater_on_the_Moon.jpg"/>
          <p:cNvPicPr/>
          <p:nvPr/>
        </p:nvPicPr>
        <p:blipFill>
          <a:blip r:embed="rId1"/>
          <a:stretch/>
        </p:blipFill>
        <p:spPr>
          <a:xfrm>
            <a:off x="2590920" y="0"/>
            <a:ext cx="563544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0" y="0"/>
            <a:ext cx="5562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Moon-craters.jpg"/>
          <p:cNvPicPr/>
          <p:nvPr/>
        </p:nvPicPr>
        <p:blipFill>
          <a:blip r:embed="rId1"/>
          <a:stretch/>
        </p:blipFill>
        <p:spPr>
          <a:xfrm>
            <a:off x="1523880" y="304920"/>
            <a:ext cx="6324840" cy="6180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0" y="0"/>
            <a:ext cx="5562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un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 word that refers to the m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que94281_s"/>
          <p:cNvPicPr/>
          <p:nvPr/>
        </p:nvPicPr>
        <p:blipFill>
          <a:blip r:embed="rId1"/>
          <a:stretch/>
        </p:blipFill>
        <p:spPr>
          <a:xfrm>
            <a:off x="304920" y="3124080"/>
            <a:ext cx="4419360" cy="2343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plum_apollo16"/>
          <p:cNvPicPr/>
          <p:nvPr/>
        </p:nvPicPr>
        <p:blipFill>
          <a:blip r:embed="rId2"/>
          <a:stretch/>
        </p:blipFill>
        <p:spPr>
          <a:xfrm>
            <a:off x="4543560" y="2590920"/>
            <a:ext cx="4600440" cy="34002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1981080" y="6172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great imag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WordArt 7"/>
          <p:cNvSpPr txBox="1"/>
          <p:nvPr/>
        </p:nvSpPr>
        <p:spPr>
          <a:xfrm>
            <a:off x="1066680" y="2514600"/>
            <a:ext cx="268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unar ro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WordArt 8"/>
          <p:cNvSpPr txBox="1"/>
          <p:nvPr/>
        </p:nvSpPr>
        <p:spPr>
          <a:xfrm>
            <a:off x="4800600" y="2209680"/>
            <a:ext cx="2857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unar rov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2590920" y="3200400"/>
            <a:ext cx="0" cy="380880"/>
          </a:xfrm>
          <a:prstGeom prst="line">
            <a:avLst/>
          </a:prstGeom>
          <a:ln w="4140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H="1">
            <a:off x="5943600" y="2895480"/>
            <a:ext cx="380880" cy="304920"/>
          </a:xfrm>
          <a:prstGeom prst="line">
            <a:avLst/>
          </a:prstGeom>
          <a:ln w="34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3d.gif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345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on is the closest object to the Earth, and the only one that humans have visited, so f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MPj01827690000[1]"/>
          <p:cNvPicPr/>
          <p:nvPr/>
        </p:nvPicPr>
        <p:blipFill>
          <a:blip r:embed="rId1"/>
          <a:stretch/>
        </p:blipFill>
        <p:spPr>
          <a:xfrm>
            <a:off x="4572000" y="2590920"/>
            <a:ext cx="3386160" cy="4267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04920" y="1143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’t copy thi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photos and the Apollo missions we can learn what the moon is made of and how it was form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MPj02892110000[1]"/>
          <p:cNvPicPr/>
          <p:nvPr/>
        </p:nvPicPr>
        <p:blipFill>
          <a:blip r:embed="rId1"/>
          <a:stretch/>
        </p:blipFill>
        <p:spPr>
          <a:xfrm>
            <a:off x="4572000" y="3124080"/>
            <a:ext cx="4191120" cy="34228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04920" y="1143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’t copy thi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farside"/>
          <p:cNvPicPr/>
          <p:nvPr/>
        </p:nvPicPr>
        <p:blipFill>
          <a:blip r:embed="rId1"/>
          <a:stretch/>
        </p:blipFill>
        <p:spPr>
          <a:xfrm>
            <a:off x="5334120" y="2905200"/>
            <a:ext cx="3413160" cy="3952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3059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’s moon is the only natural satellite orbiting our pla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rotates at the same speed that it orbits the Earth so that the same side of the moon is always facing u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akes the moon 27.3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orbit the Ear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676520" y="48006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ar-side of the Mo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441972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on’s surface is covered with crate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ters are large, shallow holes in the groun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on craters are formed by meteorites smashing into its surf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AS15_M3_0599"/>
          <p:cNvPicPr/>
          <p:nvPr/>
        </p:nvPicPr>
        <p:blipFill>
          <a:blip r:embed="rId1"/>
          <a:stretch/>
        </p:blipFill>
        <p:spPr>
          <a:xfrm>
            <a:off x="5638680" y="3962520"/>
            <a:ext cx="2613240" cy="268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eteor 2"/>
          <p:cNvPicPr/>
          <p:nvPr/>
        </p:nvPicPr>
        <p:blipFill>
          <a:blip r:embed="rId2"/>
          <a:stretch/>
        </p:blipFill>
        <p:spPr>
          <a:xfrm>
            <a:off x="-1143000" y="4419720"/>
            <a:ext cx="91440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MCDD00945_0000[1]"/>
          <p:cNvPicPr/>
          <p:nvPr/>
        </p:nvPicPr>
        <p:blipFill>
          <a:blip r:embed="rId3"/>
          <a:stretch/>
        </p:blipFill>
        <p:spPr>
          <a:xfrm>
            <a:off x="5410080" y="4624560"/>
            <a:ext cx="2438640" cy="223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1.84971E-006 L 0.775 0.17757 E">
                                      <p:cBhvr>
                                        <p:cTn id="6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evt="end">
                                        <p:tn val="68"/>
                                      </p:cond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aters have six distinguishable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oo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at bottom of a cr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l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wl-like sides of a cr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jec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terial thrown out of the cr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copersm"/>
          <p:cNvPicPr/>
          <p:nvPr/>
        </p:nvPicPr>
        <p:blipFill>
          <a:blip r:embed="rId1"/>
          <a:stretch/>
        </p:blipFill>
        <p:spPr>
          <a:xfrm>
            <a:off x="4572000" y="3886200"/>
            <a:ext cx="3381480" cy="2779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 Cra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ised ri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ock thrown out of the crater during impact and left at the crater’s 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ral peak or uplift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mountain that forms at the centre of the crater in reaction to the force of imp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y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ght streaks that start at the rim of the crater and extend out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Picture 4" descr="bullialdus-10"/>
          <p:cNvPicPr/>
          <p:nvPr/>
        </p:nvPicPr>
        <p:blipFill>
          <a:blip r:embed="rId1"/>
          <a:stretch/>
        </p:blipFill>
        <p:spPr>
          <a:xfrm>
            <a:off x="533520" y="762120"/>
            <a:ext cx="8127720" cy="60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on Cra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Picture 4" descr="moon%20%20crater%20(7)%204-13-01_al_st_pr"/>
          <p:cNvPicPr/>
          <p:nvPr/>
        </p:nvPicPr>
        <p:blipFill>
          <a:blip r:embed="rId1"/>
          <a:stretch/>
        </p:blipFill>
        <p:spPr>
          <a:xfrm>
            <a:off x="1143000" y="1219320"/>
            <a:ext cx="6629400" cy="5406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4:12:08Z</dcterms:created>
  <dc:creator>Teacher</dc:creator>
  <dc:description/>
  <dc:language>en-US</dc:language>
  <cp:lastModifiedBy>Moe</cp:lastModifiedBy>
  <dcterms:modified xsi:type="dcterms:W3CDTF">2010-04-14T19:06:18Z</dcterms:modified>
  <cp:revision>21</cp:revision>
  <dc:subject/>
  <dc:title>The Moon</dc:title>
</cp:coreProperties>
</file>